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7DB8-3FC2-4710-AFD2-E309FE0287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food is made up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: Bread, Pasta, Pot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: Meat, Nuts, Lent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: Butter,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body needs to digest them – turn them into a form that can be absorbed into the blood and used by cells. Enzymes make thi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food is made up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: Bread, Pasta, Pot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: Meat, Nuts, Lent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: Butter,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body needs to digest them – turn them into a form that can be absorbed into the blood and used by cells. Enzymes make thi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losely at the 3 digestion equation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carbohydr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+ 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(in pasta, bread      (a form of sugar that can b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saliv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sorbed by the body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losely at the 3 digestion equation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carbohydr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+ 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(in pasta, bread      (a form of sugar that can b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saliv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sorbed by the body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Prote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   +  Protei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  (eg. In meat, nuts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 body can absorb (in stomach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and us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Prote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   +  Protei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  (eg. In meat, nuts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 body can absorb (in stomach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and us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Fa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 enzyme  +  Fats               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creted by pancrea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Butter, Milk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(can be absorbed into bo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Fa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 enzyme  +  Fats               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creted by pancrea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Butter, Milk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(can be absorbed into bo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334C-699D-4F7F-98F3-CD436D87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7939-E550-4679-9FE4-E74A26E7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ADF3-C412-46BD-9012-23704054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89B1-D9C7-48C7-BD69-B1BD7590D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6D63-AF58-41E5-BA38-04218F94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7194-C59E-4A86-B1FB-2B972737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91D7-53F6-4177-9111-DFCA2431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8E7F-00DF-4CFB-B50D-D702A5FE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6BC0-D318-4D12-84B3-ADED00FD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6734-7CA9-4E0B-B774-61C80C2E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B766-9091-402D-8BC3-1A43EAC2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43F3-C9DD-4C8B-ACE2-4C64AB52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B976-96E9-4C49-8997-72D4BEF603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hem.purdue.edu/courses/chm333/enzymaticreaction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r food is made up of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bohydrates: Bread, Pasta, Po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: Meat, Nuts, Lent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s: Butter, Mi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r body needs to digest them – turn them into a form that can be absorbed into the blood and used by cells. Enzymes make thi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ook closely at the 3 digestion equation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s that work on carbohydr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ylase + Star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Malt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 pasta, bread      (a form of sugar that can b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 saliva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bohydrat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absorbed by the body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572000" y="342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s that work on Prote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ease   +  Protein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zyme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eg. In meat, nuts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e body can absorb (in stomach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m and use th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4788000" y="3573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s that work on Fa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pase enzyme  +  Fats                Fatty Acids + Glyc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ecreted by pancreas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(Butter, Milk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(can be absorbed into bo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nzyme action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4427640" y="3645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56:25Z</dcterms:created>
  <dc:creator>CEC</dc:creator>
  <dc:description/>
  <dc:language>en-US</dc:language>
  <cp:lastModifiedBy>LEGION2</cp:lastModifiedBy>
  <dcterms:modified xsi:type="dcterms:W3CDTF">2016-01-14T09:04:29Z</dcterms:modified>
  <cp:revision>7</cp:revision>
  <dc:subject/>
  <dc:title>Digestive Enzymes</dc:title>
</cp:coreProperties>
</file>